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Pie%20Jesu%20Domine-Monty%20Python.wav" ContentType="audio/x-wav"/>
  <Override PartName="/ppt/media/image21.png" ContentType="image/png"/>
  <Override PartName="/ppt/media/image19.png" ContentType="image/png"/>
  <Override PartName="/ppt/media/image17.png" ContentType="image/png"/>
  <Override PartName="/ppt/media/sneeze%5B1%5D.wav" ContentType="audio/x-wav"/>
  <Override PartName="/ppt/media/image16.png" ContentType="image/png"/>
  <Override PartName="/ppt/media/Bring%20out%20your%20dead%20-%20Monty%20Python.wav" ContentType="audio/x-wav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0.jpeg" ContentType="image/jpeg"/>
  <Override PartName="/ppt/media/image28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38.png" ContentType="image/png"/>
  <Override PartName="/ppt/media/image8.png" ContentType="image/png"/>
  <Override PartName="/ppt/media/image7.jpeg" ContentType="image/jpeg"/>
  <Override PartName="/ppt/media/image5.gif" ContentType="image/gif"/>
  <Override PartName="/ppt/media/image34.jpeg" ContentType="image/jpeg"/>
  <Override PartName="/ppt/media/image37.png" ContentType="image/png"/>
  <Override PartName="/ppt/media/image33.jpeg" ContentType="image/jpeg"/>
  <Override PartName="/ppt/media/image2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BC7-2FAC-4027-A04E-0B4016BF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E42-A3D4-44F3-A585-0815E042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DC4-77A5-40FF-B041-566BA1BD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B4A-F081-469A-A044-1C8F1433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84F5-BF5F-4711-8F05-D53D327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931C-4C03-44A5-91CC-CBB82E9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4979-BD52-4CCD-A3A4-7B75A758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59A-7BDF-4C59-8F0F-DFAB2408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7E39-D678-4FA4-AC64-8B4E8857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8F66-7094-47F5-8FFF-AD9E6F4D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5E9A-BE2E-4E50-98F9-165EBA79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0B0-AF92-4D5E-AE9C-FDFFED5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7658-EB96-4F03-9FEE-85B50C0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C261-556A-4251-B658-DE08467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9F09-F1DE-4972-9F4F-E81ECFBE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980C-69B7-4C9A-9D5E-E4EBD276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7B63-184B-4911-8843-8BB989F4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D20-E7A9-44C2-8D01-AE6ABC8F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3E1-78EA-4493-8304-F8CF63E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817-3A73-441F-9F77-787BEB6C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988-A3D6-4747-B7B7-5A27CFCA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D9D-F937-43BA-B874-1CD73C77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B3E-683D-4DD7-B170-4D1F1F82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A5E-4616-4705-9FDC-459DDF64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2CC2-EF21-497D-BE0C-FCE142608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B55-D2D5-4217-852E-3C68C1F0A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Bring%20out%20your%20dead%20-%20Monty%20Python.wav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neeze%5B1%5D.wav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ps.google.com/maps?ll=43.9486,4.8079&amp;spn=0.1,0.1&amp;t=h&amp;q=43.9486,4.8079" TargetMode="External"/><Relationship Id="rId3" Type="http://schemas.openxmlformats.org/officeDocument/2006/relationships/hyperlink" Target="http://en.wikipedia.org/wiki/File:France_jms.png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Pie%20Jesu%20Domine-Monty%20Python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he Middle Age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ges of the Late Middle 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Paglia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05120" y="4572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Symp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581280" cy="248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476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3434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Bulbous (Bubo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4080" y="2514600"/>
            <a:ext cx="15242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62120" y="4800600"/>
            <a:ext cx="3504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epticemic Form:</a:t>
            </a:r>
            <a:br>
              <a:rPr sz="2800"/>
            </a:br>
            <a:r>
              <a:rPr b="1" lang="en-US" sz="2400" spc="-1" strike="noStrike">
                <a:solidFill>
                  <a:srgbClr val="ffe8a9"/>
                </a:solidFill>
                <a:latin typeface="Comic Sans MS"/>
              </a:rPr>
              <a:t>almost 100% mortality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09880" y="5257440"/>
            <a:ext cx="35053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395280"/>
            <a:ext cx="65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1347:  Plague Reaches Constantinopl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0" t="5687" r="0" b="7112"/>
          <a:stretch/>
        </p:blipFill>
        <p:spPr>
          <a:xfrm>
            <a:off x="1447920" y="2895480"/>
            <a:ext cx="6172200" cy="3837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From the </a:t>
            </a:r>
            <a:r>
              <a:rPr b="1" i="1" lang="en-US" sz="4800" spc="-1" strike="noStrike">
                <a:solidFill>
                  <a:srgbClr val="134c91"/>
                </a:solidFill>
                <a:latin typeface="Nosferatu"/>
              </a:rPr>
              <a:t>Toggenburg Bible</a:t>
            </a: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, 141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295280" y="2057400"/>
            <a:ext cx="6553440" cy="4411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3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Lancing a Bubo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230640" cy="4648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59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5800" y="2209680"/>
            <a:ext cx="7696080" cy="4154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5105160" cy="29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2286000" y="514980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Nosferatu"/>
              </a:rPr>
              <a:t>Bring out your dead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remove" presetClass="entr" presetID="22" presetSubtype="8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ing%20out%20your%20dead%20-%20Monty%20Pyth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8f8f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2543400" cy="207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473280" cy="432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1284840" y="4529160"/>
            <a:ext cx="25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n obsession </a:t>
            </a:r>
            <a:br>
              <a:rPr sz="2800"/>
            </a:b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eath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4744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44444E-006 L 0.19427 0.18194 E">
                                      <p:cBhvr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838080"/>
            <a:ext cx="73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53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Boccaccio in </a:t>
            </a:r>
            <a:r>
              <a:rPr b="1" i="1" lang="en-US" sz="4800" spc="-1" strike="noStrike">
                <a:solidFill>
                  <a:srgbClr val="c0c0c0"/>
                </a:solidFill>
                <a:latin typeface="Nosferatu"/>
              </a:rPr>
              <a:t>The Decamer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71296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Nosferatu"/>
              </a:rPr>
              <a:t>The victims ate lunch with their friends and dinner with their ancestor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95280" y="6238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</a:t>
            </a:r>
            <a:r>
              <a:rPr b="1" i="1" lang="en-US" sz="4800" spc="-1" strike="noStrike">
                <a:solidFill>
                  <a:srgbClr val="134c91"/>
                </a:solidFill>
                <a:latin typeface="Nosferatu"/>
              </a:rPr>
              <a:t>Danse Macab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81840" cy="390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67840" cy="6051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Key Idea…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1300s, the foundations of Europe were rocked by religious scandal, disease, and warf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094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doctor's rob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43000" y="1828800"/>
            <a:ext cx="204480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85800" y="55627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 Doctor’s Ro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rcRect l="1728" t="2621" r="1510" b="3010"/>
          <a:stretch/>
        </p:blipFill>
        <p:spPr>
          <a:xfrm>
            <a:off x="4114800" y="2438280"/>
            <a:ext cx="426708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80060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Leec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52578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Flagellants:</a:t>
            </a:r>
            <a:br>
              <a:rPr sz="3600"/>
            </a:b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Self-inflicted “penance” for our si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5867280" cy="3319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24852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Comic Sans MS"/>
              </a:rPr>
              <a:t>Pograms</a:t>
            </a:r>
            <a:r>
              <a:rPr b="1" i="1" lang="en-US" sz="3400" spc="-1" strike="noStrike">
                <a:solidFill>
                  <a:srgbClr val="faf4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e8a9"/>
                </a:solidFill>
                <a:latin typeface="Comic Sans MS"/>
              </a:rPr>
              <a:t>against the Jew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16040" y="2046240"/>
            <a:ext cx="271296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1178280" y="581328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Jew”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267080" y="2351160"/>
            <a:ext cx="434340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472428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Golden Circle” obligatory ba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171840" y="3570120"/>
            <a:ext cx="22860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00800" y="3798360"/>
            <a:ext cx="114300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361960" y="4789080"/>
            <a:ext cx="22860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14400" y="533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Death Triumphant !:</a:t>
            </a:r>
            <a:br>
              <a:rPr sz="4800"/>
            </a:b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Major Artistic The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0" t="1451" r="1408" b="0"/>
          <a:stretch/>
        </p:blipFill>
        <p:spPr>
          <a:xfrm>
            <a:off x="1905120" y="2368440"/>
            <a:ext cx="5333760" cy="372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90720" y="1666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066680"/>
            <a:ext cx="69339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A sickly season,” the merchant sai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The town I left was filled with dea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and everywhere these queer red flies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crawled upon the corpses’ eye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eating them away.”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Fair make you sick,” the merchant said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“They crawled upon the wine and bread.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Pale priests with oil and book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bulging eyes and crazy looks,</a:t>
            </a:r>
            <a:br>
              <a:rPr sz="2700"/>
            </a:br>
            <a:r>
              <a:rPr b="1" lang="en-US" sz="2700" spc="-1" strike="noStrike">
                <a:solidFill>
                  <a:srgbClr val="ff532b"/>
                </a:solidFill>
                <a:latin typeface="Nosferatu"/>
              </a:rPr>
              <a:t>dropping like the flies.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304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 (2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676520"/>
            <a:ext cx="7315200" cy="62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I had to laugh,” the merchant sai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 doctors purged, and dosed, and bled;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And proved through solemn disputation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 cause lay in some constellation.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Then they began to die.”</a:t>
            </a:r>
            <a:br>
              <a:rPr sz="2800"/>
            </a:br>
            <a:br>
              <a:rPr sz="700"/>
            </a:br>
            <a:br>
              <a:rPr sz="700"/>
            </a:br>
            <a:r>
              <a:rPr b="1" lang="en-US" sz="2800" spc="-1" strike="noStrike">
                <a:solidFill>
                  <a:srgbClr val="faf400"/>
                </a:solidFill>
                <a:latin typeface="Nosferatu"/>
              </a:rPr>
              <a:t>“First they sneezed,”</a:t>
            </a: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“And then they turned the brightest red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Begged for water, then fell back.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With bulging eyes and face turned black,</a:t>
            </a:r>
            <a:br>
              <a:rPr sz="2800"/>
            </a:br>
            <a:r>
              <a:rPr b="1" lang="en-US" sz="2800" spc="-1" strike="noStrike">
                <a:solidFill>
                  <a:srgbClr val="ff532b"/>
                </a:solidFill>
                <a:latin typeface="Nosferatu"/>
              </a:rPr>
              <a:t>they waited for the flie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A Little Macabre Ditty (3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362320"/>
            <a:ext cx="73152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I came away,” the merchant said,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You can’t do business with the dead.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So I’ve come here to ply my trade.</a:t>
            </a:r>
            <a:br>
              <a:rPr sz="3000"/>
            </a:br>
            <a:r>
              <a:rPr b="1" lang="en-US" sz="3000" spc="-1" strike="noStrike">
                <a:solidFill>
                  <a:srgbClr val="ff532b"/>
                </a:solidFill>
                <a:latin typeface="Nosferatu"/>
              </a:rPr>
              <a:t>“You’ll find this to be a fine brocade (cloth)…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15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32b"/>
                </a:solidFill>
                <a:latin typeface="Nosferatu"/>
              </a:rPr>
              <a:t>And then he</a:t>
            </a:r>
            <a:r>
              <a:rPr b="1" lang="en-US" sz="4800" spc="-1" strike="noStrike">
                <a:solidFill>
                  <a:srgbClr val="ff0000"/>
                </a:solidFill>
                <a:latin typeface="Nosferatu"/>
              </a:rPr>
              <a:t> </a:t>
            </a:r>
            <a:r>
              <a:rPr b="1" lang="en-US" sz="4800" spc="-1" strike="noStrike">
                <a:solidFill>
                  <a:srgbClr val="faf400"/>
                </a:solidFill>
                <a:latin typeface="Nosferatu"/>
              </a:rPr>
              <a:t>sneezed……….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45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eez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34c91"/>
                </a:solidFill>
                <a:latin typeface="Nosferatu"/>
              </a:rPr>
              <a:t>The Mortality Ra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743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Nosferatu"/>
              </a:rPr>
              <a:t>35% - 7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495680"/>
            <a:ext cx="6248520" cy="2104920"/>
          </a:xfrm>
          <a:prstGeom prst="rect">
            <a:avLst/>
          </a:prstGeom>
          <a:noFill/>
          <a:ln w="1260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Nosferatu"/>
              </a:rPr>
              <a:t>25,000,000 dead !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304920"/>
            <a:ext cx="761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What were the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political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economic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and social effects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of the Black Death?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Effects of Plagu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declined.  Prices r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emanded higher p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asant riots in Western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ks on J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prestige l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ests abandoned du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bylonian Cap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eat Schism (aka the Western Schis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bonic pla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ndred Years’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up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of the R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H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an of Arc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 d’Ar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of Tu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f3ff"/>
                </a:solidFill>
                <a:latin typeface="Arial"/>
              </a:rPr>
              <a:t>The Hundred Years War (1337-1453)</a:t>
            </a: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152280" y="1599840"/>
            <a:ext cx="72388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 of Philip IV of France and sons by 13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end of Capetian Dynas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nch claimant: Philip of Val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lish claimant: King Edward III, grandson of Philip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held lands in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n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English w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223040" y="1523880"/>
            <a:ext cx="1920960" cy="27432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224840" y="4267080"/>
            <a:ext cx="191916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708520" y="2209680"/>
            <a:ext cx="34354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7924680" y="304920"/>
            <a:ext cx="0" cy="251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English Succes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5641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raids, not long batt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cy (134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soldiers  defeat kn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tiers (135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p due to Pla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French 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used French peasant re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4487" r="0" b="9946"/>
          <a:stretch/>
        </p:blipFill>
        <p:spPr>
          <a:xfrm>
            <a:off x="6705720" y="1219320"/>
            <a:ext cx="1998720" cy="3581280"/>
          </a:xfrm>
          <a:prstGeom prst="rect">
            <a:avLst/>
          </a:prstGeom>
          <a:ln w="9360">
            <a:solidFill>
              <a:srgbClr val="f3f3ff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619600" y="1219320"/>
            <a:ext cx="35244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ssues for England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99: King Richard abdicated th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popular tyrant (ta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nry, duke of Lancaster, became King Henry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not resume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Final Phases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of Agincourt (1415)-English Vi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y (1420)-Henry V of England gained French crown upon death of Charles 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died in 1422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an of Arc (Jean d’Arc)-supported claims of Charles VII (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lied French troops at Siege of Orleans (142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les crow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n 1430, tried as a witch, burned at s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4114800" cy="5118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3338640" cy="342900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198" name="" descr="File:Lenepveu, Jeanne d'Arc au siège d'Orléans.jpg"/>
          <p:cNvPicPr/>
          <p:nvPr/>
        </p:nvPicPr>
        <p:blipFill>
          <a:blip r:embed="rId4"/>
          <a:stretch/>
        </p:blipFill>
        <p:spPr>
          <a:xfrm>
            <a:off x="5029200" y="-1371600"/>
            <a:ext cx="411480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233352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ile:Charles VI le Fou.jpg"/>
          <p:cNvPicPr/>
          <p:nvPr/>
        </p:nvPicPr>
        <p:blipFill>
          <a:blip r:embed="rId6"/>
          <a:stretch/>
        </p:blipFill>
        <p:spPr>
          <a:xfrm>
            <a:off x="6342120" y="3276720"/>
            <a:ext cx="28018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3f3ff"/>
                </a:solidFill>
                <a:latin typeface="Arial"/>
              </a:rPr>
              <a:t>Joan of Arc (1412</a:t>
            </a:r>
            <a:r>
              <a:rPr b="0" lang="en-US" sz="4200" spc="-1" strike="noStrike">
                <a:solidFill>
                  <a:srgbClr val="f3f3ff"/>
                </a:solidFill>
                <a:latin typeface="Comic Sans MS"/>
              </a:rPr>
              <a:t>-</a:t>
            </a:r>
            <a:r>
              <a:rPr b="0" lang="en-US" sz="4200" spc="-1" strike="noStrike">
                <a:solidFill>
                  <a:srgbClr val="f3f3ff"/>
                </a:solidFill>
                <a:latin typeface="Arial"/>
              </a:rPr>
              <a:t>1432)</a:t>
            </a:r>
            <a:endParaRPr b="0" lang="en-US" sz="4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69640" indent="-269640">
              <a:lnSpc>
                <a:spcPct val="90000"/>
              </a:lnSpc>
              <a:spcBef>
                <a:spcPts val="675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piration for French resurg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11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5943600" cy="2481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STJ22.gif (43501 bytes)"/>
          <p:cNvPicPr/>
          <p:nvPr/>
        </p:nvPicPr>
        <p:blipFill>
          <a:blip r:embed="rId3"/>
          <a:stretch/>
        </p:blipFill>
        <p:spPr>
          <a:xfrm>
            <a:off x="414360" y="2362320"/>
            <a:ext cx="2550960" cy="327636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Impact of Hundred Years’ War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elled English from kingdom 145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in European war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Turmoil over def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of the Roses (1453-148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nry Tudor, House of Lancaster def. the House of Y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0" y="4114800"/>
            <a:ext cx="9144000" cy="2743200"/>
            <a:chOff x="0" y="4114800"/>
            <a:chExt cx="9144000" cy="2743200"/>
          </a:xfrm>
        </p:grpSpPr>
        <p:grpSp>
          <p:nvGrpSpPr>
            <p:cNvPr id="208" name=""/>
            <p:cNvGrpSpPr/>
            <p:nvPr/>
          </p:nvGrpSpPr>
          <p:grpSpPr>
            <a:xfrm>
              <a:off x="0" y="4343400"/>
              <a:ext cx="2629080" cy="2514600"/>
              <a:chOff x="0" y="4343400"/>
              <a:chExt cx="2629080" cy="2514600"/>
            </a:xfrm>
          </p:grpSpPr>
          <p:pic>
            <p:nvPicPr>
              <p:cNvPr id="209" name="" descr="File:Yorkshire rose.svg"/>
              <p:cNvPicPr/>
              <p:nvPr/>
            </p:nvPicPr>
            <p:blipFill>
              <a:blip r:embed="rId2"/>
              <a:stretch/>
            </p:blipFill>
            <p:spPr>
              <a:xfrm>
                <a:off x="0" y="4343400"/>
                <a:ext cx="262908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 txBox="1"/>
              <p:nvPr/>
            </p:nvSpPr>
            <p:spPr>
              <a:xfrm>
                <a:off x="685800" y="6219720"/>
                <a:ext cx="1162080" cy="638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York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6515280" y="4343400"/>
              <a:ext cx="2628720" cy="2514600"/>
              <a:chOff x="6515280" y="4343400"/>
              <a:chExt cx="2628720" cy="2514600"/>
            </a:xfrm>
          </p:grpSpPr>
          <p:pic>
            <p:nvPicPr>
              <p:cNvPr id="212" name="" descr="File:Lancashire rose.svg"/>
              <p:cNvPicPr/>
              <p:nvPr/>
            </p:nvPicPr>
            <p:blipFill>
              <a:blip r:embed="rId3"/>
              <a:stretch/>
            </p:blipFill>
            <p:spPr>
              <a:xfrm>
                <a:off x="6515280" y="4343400"/>
                <a:ext cx="262872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 txBox="1"/>
              <p:nvPr/>
            </p:nvSpPr>
            <p:spPr>
              <a:xfrm>
                <a:off x="7010280" y="5943600"/>
                <a:ext cx="1752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Lancaster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pic>
          <p:nvPicPr>
            <p:cNvPr id="214" name="" descr="File:Tudor rose.svg"/>
            <p:cNvPicPr/>
            <p:nvPr/>
          </p:nvPicPr>
          <p:blipFill>
            <a:blip r:embed="rId4"/>
            <a:stretch/>
          </p:blipFill>
          <p:spPr>
            <a:xfrm>
              <a:off x="3276720" y="4114800"/>
              <a:ext cx="2590560" cy="24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3809880" y="6095880"/>
              <a:ext cx="160020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Tud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Why it matters now…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Faith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ism, scandal, the role of the Church in the plague, and excessive wealth turned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Chivalry/Fedualism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use for knights/castles with introduction of gu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s of nobles in Plague, Hundred Years’ War and War of the Roses further weakened feud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 Middle Ages saw changes in society in terms of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ddl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from a Christian continent to individual 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3f3ff"/>
                </a:solidFill>
                <a:latin typeface="Arial"/>
              </a:rPr>
              <a:t>Babylonian </a:t>
            </a: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aptivity: 1307-1378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lip IV (France) vs. Boniface VIII (Po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: Taxing cl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tes-General cr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soldier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r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d shortly 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cardinals elect a French Pope (Clement 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Arial"/>
                <a:hlinkClick r:id="rId2"/>
              </a:rPr>
              <a:t>A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e = puppet of French 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-Attack on Knights Temp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72200" y="990720"/>
            <a:ext cx="2971800" cy="3348000"/>
            <a:chOff x="6172200" y="990720"/>
            <a:chExt cx="2971800" cy="3348000"/>
          </a:xfrm>
        </p:grpSpPr>
        <p:pic>
          <p:nvPicPr>
            <p:cNvPr id="92" name="" descr="Map highlighting the commune of Avignon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172200" y="990720"/>
              <a:ext cx="2819520" cy="27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772400" y="3881520"/>
              <a:ext cx="1371600" cy="457200"/>
            </a:xfrm>
            <a:prstGeom prst="wedgeRoundRectCallout">
              <a:avLst>
                <a:gd name="adj1" fmla="val -24652"/>
                <a:gd name="adj2" fmla="val -207986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Arial"/>
                </a:rPr>
                <a:t>Avign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3f3ff"/>
                </a:solidFill>
                <a:latin typeface="Arial"/>
              </a:rPr>
              <a:t>TWO POPES!?!</a:t>
            </a:r>
            <a:endParaRPr b="0" lang="en-US" sz="5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632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Schism-1378 to 14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e (Urban VI) vs. Avignon (Clement V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upset with Churc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Wycliffe-Translated Bible into 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d separation of Church and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d church poverty, simple cl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n Hus (John Huss)-Renounced BOTH po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ommunicated, burned at st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cil of Constance (14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established Papacy in 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329520" y="0"/>
            <a:ext cx="281448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435720" y="0"/>
            <a:ext cx="270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The Black Death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llowing is the creation of Susan Pojer, a teacher in Chappaqua, 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5335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The Black Dea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352680" y="4191120"/>
            <a:ext cx="28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1347 - 135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1095120" cy="1181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7400" y="5334120"/>
            <a:ext cx="52578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Horace Greeley HS    Chappaqua, 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1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380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Disease Cyc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676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drinks rat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that carries the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 bacte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05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 clogged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with bac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676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Bac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multiply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5105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bites human an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regurgitates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into human w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faf4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59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uman is infec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752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5753160" y="3467160"/>
            <a:ext cx="2133360" cy="838080"/>
          </a:xfrm>
          <a:prstGeom prst="rightArrow">
            <a:avLst>
              <a:gd name="adj1" fmla="val 50000"/>
              <a:gd name="adj2" fmla="val 63638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037760" y="5181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6200000">
            <a:off x="1943280" y="415296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3c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952880" y="2063880"/>
            <a:ext cx="350532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9051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34c91"/>
                </a:solidFill>
                <a:latin typeface="Nosferatu"/>
              </a:rPr>
              <a:t>The Culpr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Black rat"/>
          <p:cNvPicPr/>
          <p:nvPr/>
        </p:nvPicPr>
        <p:blipFill>
          <a:blip r:embed="rId3"/>
          <a:stretch/>
        </p:blipFill>
        <p:spPr>
          <a:xfrm>
            <a:off x="1905120" y="434340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114800" y="2209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3760" y="411480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1447920"/>
            <a:ext cx="3276720" cy="1904760"/>
            <a:chOff x="838080" y="1447920"/>
            <a:chExt cx="3276720" cy="19047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rcRect l="6803" t="15997" r="5201" b="18001"/>
            <a:stretch/>
          </p:blipFill>
          <p:spPr>
            <a:xfrm>
              <a:off x="1295280" y="1447920"/>
              <a:ext cx="2667240" cy="1600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21" name=""/>
            <p:cNvSpPr txBox="1"/>
            <p:nvPr/>
          </p:nvSpPr>
          <p:spPr>
            <a:xfrm>
              <a:off x="838080" y="2819520"/>
              <a:ext cx="3276720" cy="533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Yersinia Pesti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16:13Z</dcterms:created>
  <dc:creator>cpagliaro</dc:creator>
  <dc:description/>
  <dc:language>en-US</dc:language>
  <cp:lastModifiedBy>cpagliaro</cp:lastModifiedBy>
  <dcterms:modified xsi:type="dcterms:W3CDTF">2009-04-30T17:41:55Z</dcterms:modified>
  <cp:revision>12</cp:revision>
  <dc:subject/>
  <dc:title>The Middle Ages</dc:title>
</cp:coreProperties>
</file>